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A5D-C058-4AF6-91C2-15227767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5AA-E14E-4E9A-B387-CE124001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429-EF8F-4772-B1EF-4AF67BBC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551-C988-44C4-BC0E-1D5C8161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6A3C-A38D-49BD-8B26-DC43CB6B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42C1-1DD3-40BE-9973-9E827362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6573-BFAD-4BF1-AE12-DF52123A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0816-5032-41F6-9899-8CA65F8F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715E-EA88-40A5-BDB0-B6256F20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1B8A-5ACC-4A82-A198-6D0F3A8D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3C19-1619-4865-9828-B3E853EC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9C3-9A88-4D28-97B6-C2286C02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4EB9-97FA-46A7-AB17-EA05CA6E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FBE8-5F2D-48CF-9D14-CDADDCAE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A857-2306-4283-BF69-82C90A26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2322-F225-475C-9895-A16CC7C4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88AE-F1B0-4D66-B1C7-22EF096B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7B3-DE07-4A46-9EFF-BC9CB842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E7E-1416-411B-BEF1-7BB6DD30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E28-60C2-4849-85CE-778861C8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B5B-1FF2-4E42-A989-C54EDB5E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2B5-1827-4FC1-A83F-EA9987BB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9C2-003A-44C6-B85F-4EC8E368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32F-2C40-4D1F-9883-9D30772E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5778-9C2A-42E8-8810-1468F10190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BFB2-013A-4932-8834-88B9CC25BF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4 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января 200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одготовка высококвалифицированных кадров (аспирантура) в 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484280"/>
          <a:ext cx="8785440" cy="6607080"/>
        </p:xfrm>
        <a:graphic>
          <a:graphicData uri="http://schemas.openxmlformats.org/drawingml/2006/table">
            <a:tbl>
              <a:tblPr/>
              <a:tblGrid>
                <a:gridCol w="2233800"/>
                <a:gridCol w="574560"/>
                <a:gridCol w="649440"/>
                <a:gridCol w="647640"/>
                <a:gridCol w="647640"/>
                <a:gridCol w="647640"/>
                <a:gridCol w="792360"/>
                <a:gridCol w="649080"/>
                <a:gridCol w="792360"/>
                <a:gridCol w="503280"/>
                <a:gridCol w="647640"/>
              </a:tblGrid>
              <a:tr h="459000">
                <a:tc rowSpan="3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аспира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до окончания с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за счет средств федерального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по прямым договорам с оплатой стоимост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 аспи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 т.ч. аспирантов – граждан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425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Распределение аспирантов, обучающихся за счет средств ФБ по отраслям науки и специальностям в 200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79280" y="1268280"/>
          <a:ext cx="8802720" cy="5867640"/>
        </p:xfrm>
        <a:graphic>
          <a:graphicData uri="http://schemas.openxmlformats.org/drawingml/2006/table">
            <a:tbl>
              <a:tblPr/>
              <a:tblGrid>
                <a:gridCol w="3310200"/>
                <a:gridCol w="647640"/>
                <a:gridCol w="647280"/>
                <a:gridCol w="720360"/>
                <a:gridCol w="718560"/>
                <a:gridCol w="649080"/>
                <a:gridCol w="647280"/>
                <a:gridCol w="647280"/>
                <a:gridCol w="601560"/>
                <a:gridCol w="216000"/>
              </a:tblGrid>
              <a:tr h="45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сли науки и специ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измерительные и управляющие системы (по отрасл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науки о Зем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я суши, гидрохимия, водные рес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одготовка высококвалифицированных кадров (докторантура) в 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341360"/>
          <a:ext cx="8229600" cy="5102280"/>
        </p:xfrm>
        <a:graphic>
          <a:graphicData uri="http://schemas.openxmlformats.org/drawingml/2006/table">
            <a:tbl>
              <a:tblPr/>
              <a:tblGrid>
                <a:gridCol w="3251160"/>
                <a:gridCol w="1440000"/>
                <a:gridCol w="936360"/>
                <a:gridCol w="1262160"/>
                <a:gridCol w="133992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докто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защитой диссер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торанты подготовка которых осуществлена за счет средств 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торанты подготовка который осуществлена по прямым договорам с оплатой стоимост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 доктора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еделение докторантов, обучающихся за счет средств ФБ по отраслям науки и специальнос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я суши водные ресурсы, гидро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Эффективность деятельности диссертационных советов в 200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1773360"/>
          <a:ext cx="8713800" cy="4084560"/>
        </p:xfrm>
        <a:graphic>
          <a:graphicData uri="http://schemas.openxmlformats.org/drawingml/2006/table">
            <a:tbl>
              <a:tblPr/>
              <a:tblGrid>
                <a:gridCol w="1944720"/>
                <a:gridCol w="1631880"/>
                <a:gridCol w="1711440"/>
                <a:gridCol w="1712880"/>
                <a:gridCol w="171288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фр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 научных специальностей, по которым проводится защ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8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информатика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щищ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Издательская деятельность в 2006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050920" y="1125360"/>
          <a:ext cx="5040360" cy="558828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 изд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ими издательствами, 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-вом «Высш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ательством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ники научных труд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ждународных научных конференций симпози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ругие сбор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УМО и Н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другими гриф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Распределение тем по кол-ву и объему 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с 2002 по 2006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413000"/>
          <a:ext cx="8580240" cy="4771800"/>
        </p:xfrm>
        <a:graphic>
          <a:graphicData uri="http://schemas.openxmlformats.org/drawingml/2006/table">
            <a:tbl>
              <a:tblPr/>
              <a:tblGrid>
                <a:gridCol w="1512720"/>
                <a:gridCol w="504720"/>
                <a:gridCol w="935280"/>
                <a:gridCol w="504720"/>
                <a:gridCol w="934920"/>
                <a:gridCol w="505080"/>
                <a:gridCol w="874440"/>
                <a:gridCol w="493920"/>
                <a:gridCol w="934920"/>
                <a:gridCol w="505080"/>
                <a:gridCol w="874440"/>
              </a:tblGrid>
              <a:tr h="276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.агентство по обр.(Мин.обр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9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7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. агентство по науке и инн.(Роснау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3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4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5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-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контра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7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е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8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 3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1 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6 4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Распределение тем по факультетам за период с 2002 по 20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700280"/>
          <a:ext cx="8605800" cy="5159160"/>
        </p:xfrm>
        <a:graphic>
          <a:graphicData uri="http://schemas.openxmlformats.org/drawingml/2006/table">
            <a:tbl>
              <a:tblPr/>
              <a:tblGrid>
                <a:gridCol w="1476360"/>
                <a:gridCol w="468360"/>
                <a:gridCol w="900000"/>
                <a:gridCol w="503280"/>
                <a:gridCol w="936720"/>
                <a:gridCol w="504720"/>
                <a:gridCol w="934920"/>
                <a:gridCol w="504720"/>
                <a:gridCol w="935280"/>
                <a:gridCol w="504720"/>
                <a:gridCol w="936720"/>
              </a:tblGrid>
              <a:tr h="360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2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4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2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4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5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1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65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7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. Нау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6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53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8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 3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1 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6 4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Пленарное засе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спективы инновационного развития РГГМ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екто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.Н. Кар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учная деятельность университета в 200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ректор по НР,   В.Н. Воробь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румин Г.Т. (профессор) –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ценка состояния Невской губы по гидрохимическим и биохимическим показател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урзенева Е.В. (доцент кафедры метеопрогнозов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гностическая модель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IRLA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 ее реализация в научно-образовательном процес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рлин Л.Н. (профессор), Дикинис А.В. (доцент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временные проблемы экологической безопасности в стратегии долгосрочного развития Санкт-Петербур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икан А.В. (доцент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ониторинг трансграничных водных о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ескид П.П. (профессор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построения регионального экологического мониторин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Сердитова Н.Е. (доцент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кономика природопользования: эколого-экономический аспект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Итоговая сессия Ученого совета РГГ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76360" y="270828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 Unicode MS"/>
              </a:rPr>
              <a:t>Научная деятельность университета в 200</a:t>
            </a:r>
            <a:r>
              <a:rPr b="1" lang="en-US" sz="3600" spc="-1" strike="noStrike">
                <a:solidFill>
                  <a:srgbClr val="ff66ff"/>
                </a:solidFill>
                <a:latin typeface="Arial Unicode MS"/>
              </a:rPr>
              <a:t>6</a:t>
            </a:r>
            <a:r>
              <a:rPr b="1" lang="ru-RU" sz="3600" spc="-1" strike="noStrike">
                <a:solidFill>
                  <a:srgbClr val="ff66ff"/>
                </a:solidFill>
                <a:latin typeface="Arial Unicode MS"/>
              </a:rPr>
              <a:t>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324000" y="6093000"/>
          <a:ext cx="485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093000"/>
                    <a:ext cx="485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новные научные направления (научные школы)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1052640"/>
          <a:ext cx="8232840" cy="5640120"/>
        </p:xfrm>
        <a:graphic>
          <a:graphicData uri="http://schemas.openxmlformats.org/drawingml/2006/table">
            <a:tbl>
              <a:tblPr/>
              <a:tblGrid>
                <a:gridCol w="441000"/>
                <a:gridCol w="6164640"/>
                <a:gridCol w="1411920"/>
                <a:gridCol w="216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научного направления (научной школы)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е прое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ff"/>
                </a:solidFill>
                <a:latin typeface="Arial"/>
              </a:rPr>
              <a:t>Участие вуза в выполнении                   федерально-целевых и научно-технических програм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16000" y="1125360"/>
          <a:ext cx="7129440" cy="6037560"/>
        </p:xfrm>
        <a:graphic>
          <a:graphicData uri="http://schemas.openxmlformats.org/drawingml/2006/table">
            <a:tbl>
              <a:tblPr/>
              <a:tblGrid>
                <a:gridCol w="401760"/>
                <a:gridCol w="3198600"/>
                <a:gridCol w="1513080"/>
                <a:gridCol w="201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Ц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ировой океан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обрна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44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лан В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5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Т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41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т президента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9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е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2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4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контра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7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1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7680" y="348840"/>
            <a:ext cx="8077320" cy="73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Сводные сведения о выполнении НИР в 200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197000"/>
          <a:ext cx="8302680" cy="5214960"/>
        </p:xfrm>
        <a:graphic>
          <a:graphicData uri="http://schemas.openxmlformats.org/drawingml/2006/table">
            <a:tbl>
              <a:tblPr/>
              <a:tblGrid>
                <a:gridCol w="519120"/>
                <a:gridCol w="3632040"/>
                <a:gridCol w="2076480"/>
                <a:gridCol w="207504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федерального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36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9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е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2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Субъектов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4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а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7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е средства В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8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85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Сведения по НИР за 200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год                 (по факультетам РГГ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557360"/>
          <a:ext cx="8834400" cy="4975200"/>
        </p:xfrm>
        <a:graphic>
          <a:graphicData uri="http://schemas.openxmlformats.org/drawingml/2006/table">
            <a:tbl>
              <a:tblPr/>
              <a:tblGrid>
                <a:gridCol w="1473120"/>
                <a:gridCol w="254160"/>
                <a:gridCol w="718920"/>
                <a:gridCol w="217440"/>
                <a:gridCol w="648000"/>
                <a:gridCol w="287280"/>
                <a:gridCol w="647640"/>
                <a:gridCol w="217440"/>
                <a:gridCol w="574560"/>
                <a:gridCol w="289080"/>
                <a:gridCol w="684000"/>
                <a:gridCol w="179640"/>
                <a:gridCol w="649080"/>
                <a:gridCol w="287640"/>
                <a:gridCol w="554040"/>
                <a:gridCol w="288720"/>
                <a:gridCol w="863640"/>
              </a:tblGrid>
              <a:tr h="86364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4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4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9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6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6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7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8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2 1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 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 4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 1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03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8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15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Сведения по НИР за 200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год (по факультетам, кафедрам РГГ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476280"/>
          <a:ext cx="8424720" cy="7219800"/>
        </p:xfrm>
        <a:graphic>
          <a:graphicData uri="http://schemas.openxmlformats.org/drawingml/2006/table">
            <a:tbl>
              <a:tblPr/>
              <a:tblGrid>
                <a:gridCol w="1079280"/>
                <a:gridCol w="3240000"/>
                <a:gridCol w="1657440"/>
                <a:gridCol w="2448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К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х 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7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КО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физики и гидро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и суш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2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дезии и гидроге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8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6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 ОП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7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7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ладной эколог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7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и и менеджме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.-гуманитарных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оц-гум. 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8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Участие в выставках и конференциях в 2006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авки, всего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том числе международные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онаты, представленные на выставках,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еренции –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числе международные,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 базе вуза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мии, дипломы, награды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08-01-28T10:16:42Z</dcterms:modified>
  <cp:revision>263</cp:revision>
  <dc:subject/>
  <dc:title>Итоговая сессия Ученого совета РГГМУ</dc:title>
</cp:coreProperties>
</file>